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B1095-CAC0-4C4D-A766-E39FDFFBA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38F06-8849-4625-AC76-163550BC7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74A89-AFAE-4EEA-B0BF-EA2926608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1C008-F84C-41A8-A025-64A959637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8E5D1-7B9C-4FE7-B1DF-E1A834326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D350C-1F8D-412D-BC9A-12BCA7F94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D3C1F-392B-40E0-87EA-6C8238EDD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4F09D-ADA8-452A-BAF3-A78F6FB00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3ABC9-7F1C-48E9-BADF-3E18C45BE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6856A-C905-47C9-B51A-3D1D8A95E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A92-D738-40FA-8343-2479A7E4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4D7-AED1-411A-B0D3-CFA3ABE5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A5DDC-F481-4B76-A6B3-39121139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666B3-3450-4189-A09D-180C9312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E5600-8EA1-432D-A737-10ABFFD0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26614-E927-4D2D-8E6B-5AE6A6D9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581AE-91AE-4140-99A3-263E6CC0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AB934-12BF-48C5-8E88-CAC80B7C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8D9C1-16D3-4E23-80D4-A37C730E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D4AA6-330C-4845-893F-9B599DD0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BCF86-6516-40E9-B51D-AFBD639E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76AB0-C7A1-4E67-A4BE-61DB9769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D56-3437-42EA-ABB0-2011D0D3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FE2CF-4015-43F3-B8EC-902B376A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A3190-2CB7-4958-8986-1EC660CE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523C7-062B-454E-9AC2-B97A2C90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10DD7-40DF-41BF-B675-41D2C561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2624B-ECE9-4CCB-A61F-CDDDA51F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933DE-1424-40CB-84D1-0ADE431E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CE263-872B-488D-88D7-C61A56E8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34F04-9D77-42B3-9790-027FC4B9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84AB5-69B8-4EBD-A3FB-E6548084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1275E-28EF-46EC-A971-A7754F2C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B79-0827-4B52-9273-FD11AF69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543BB-EF1B-4BAF-8D9F-0D690441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04469-4831-4D50-B2CE-EF2A753E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67CE7-E965-4D7E-8A12-C71D2F89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10BE7-2766-4C91-AC57-3A4D8636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6BE7E-919B-4814-9DAA-76DBEE1A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1E7BB-9701-48E5-8156-59670B53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6EF79-9586-4A6E-9392-69BE050D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D5303-86C5-491E-8AC0-C9932B6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DA2B3-85D8-44E7-9DB1-7AC2B1DD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53E94-51D0-47E2-841F-A26DD0E7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EC454-C175-4BC9-948A-5B0740E4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0D052-DCCF-4D39-BDD2-0FFCA13F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FE299-DB21-4051-84F5-660A552B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D732A-6B5B-4469-B847-BFBF3067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7C8AC-AFA3-4D3B-A7D2-DB26B81A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520A0-46DD-4A0E-8775-37B5B50B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B7689-F88A-4463-9C08-CABC2754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F1488-33FE-430C-8B2C-1A518507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20C5D-9607-4BB1-9EB9-E1F0591E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51A12-4D1C-4843-A00A-A3B7E890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2B2BE-A55A-4E62-8A19-C3B6F9EA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DCB24-226B-4CE9-A92F-514D4621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F7780-A2F5-4CB2-9056-7313CF5C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14B79-FAF0-4E23-AEC6-2310FAB1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FBFAE-3F8A-424B-888F-EC2B81B8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3C054-6DE3-4486-B0DE-DD7023AE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BAE3F-585C-4407-9DDB-ED31751A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43376-A0BB-4B91-BF99-A131A64F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C7F46-969C-45E1-815F-EE452CF3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6DCBA-AC20-4310-9F87-84DBB6FA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20371-F0C7-4AD6-B720-982707A3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2B970-3497-4059-9A88-E003B246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2E071-CB3F-4BE4-8FB2-C719186F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37B57-A16F-49EA-91E2-AA31E59B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C03DE-E6E5-4BEE-A139-A53FF8C3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A8FB4-F073-4AF7-8368-5CD4CCCC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7CB28-BA30-4450-A73D-A41A252D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DB9DA-AF02-46C0-A536-02F71A72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D806A-7A41-4068-B518-17680D77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1C4642-BFC7-400E-9C6D-40DEA6A3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55374-8D88-47D9-8B1C-4E2F7F87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B340F-12F4-493B-9C29-42E4B7F7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9464F-C38F-472D-8EB4-A4B39277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434CF-1C14-46C3-9C4A-D762FDD9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6B9EB-4DE3-4E59-A82E-2C72FBEC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DD7A9-7206-4766-BDD1-B642C36D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416CD-779D-47A2-96F2-DD71680D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B9365-0EF1-4DEF-970D-A441A689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487795-4003-473E-845F-A7B83659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2BD867-E47F-4157-BFA1-61D13FA9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3D968-888C-4C31-9869-CA5781E5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2C62E-AF70-4805-B5CB-25D02B09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1F4E6A-E484-4C95-8F6F-C90B9C6B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205B2-0488-4F42-9A9A-9C587638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040D6-C774-42BB-8E2E-4191A4BF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50C34-E316-49BB-A4B4-730D1B63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F16F7C-4899-4F0D-86D1-C845DF3D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51176-ED26-453D-AB79-3AAC4BE3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07B24-A140-4EC3-8C49-65D772A1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230CB-6B2A-42DD-B97B-85B5DB24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EED2E-E10F-4E30-99F3-6A9812AA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71F40-067E-4BAC-90D6-32F32B09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9D13E-C83C-4C85-9514-C4AEEF61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6894B-3CE8-4E0F-AA8C-07E52B07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1E710-66BE-48D7-B64C-1488D44F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9362C-03B1-4F93-A5F7-B9CE681F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A7B71-67C9-430E-BDE1-D06EED86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0D06A3-98A2-4B6E-9534-B57BBF7D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9B32A3-17B0-45AA-92C8-4965EECF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1120E-FCA1-417F-A830-4D4BEB4F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518AAB-5193-44A1-A09D-576281C2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C884F8-D006-4684-8C60-E5A72378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1BD1F-0987-4B24-8021-4D6C2F21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74E6F-C83E-415F-B9C2-895CFED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1AD6B-DDFB-4C66-8BF8-48940CE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DB693-DB29-434A-AA10-5A6EF247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345F4-ACA4-42AE-AE6B-383A8EB7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176E7-498A-4004-B168-C4BEC4D8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71647D-FAD6-40FB-8C51-0C33A901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A5E62-C6D3-4F14-991E-C7FA94CE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133D1D-55E4-4F0D-8AC6-4A00D6FA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61D05-3502-49D9-9751-6B773E6F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D2AB11-9FCE-47B8-93C5-99A233FB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341C9A-1CAF-41A4-B216-D8F60A3C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98688F-3327-4188-B624-77E42838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23B32D-743A-4607-9FCC-52F86438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33EE9-9694-4A25-AB47-17B00B97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8E6-EAF3-4032-9C3C-9C7CB911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35E8B-CF8A-4079-8972-3073710D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C695E0-8822-4499-80AA-D9247613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93E738-7B8B-41A0-86AA-F73240C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92EC4-F7FA-467F-BCA6-AE8C6FDF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B2B881-43ED-4018-BEC4-F53CCB62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EC2D9E-454D-4C7A-BAAE-E7FC9E80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4CC71-4DDA-4600-835E-C2B361A6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2AE75-FFD0-4B23-BF83-6F0C2D52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4A42B-BA0D-43D6-AAAF-24BDCD18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16A36-72D0-4CAA-AF52-B70ACD78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2D98-8D55-42A5-8076-AEA565BC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F3964-DF64-42BF-8563-A10496FC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0491-3D1A-4CB6-B8AA-D2C54CA7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E86E-B5B9-4B32-B693-06E5ECDD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0BD56-7E1F-412C-8BB9-BF5DEDED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42A-4C42-4AAB-8199-9BBA06CA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E756-CFA1-47C8-BC9D-5765B543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A4966-90CC-4DC4-B5E4-DA852F88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F1E5-DB6A-4E11-B0FE-B23B764F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A1DC6-254D-4128-9392-EB8201CA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F7632-F50B-4E36-9804-1C4DDA37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5470-C55F-4D6D-BBA1-6FC98B8D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5998-2E87-4694-923D-0A89154C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EFC10-A8E5-4156-BD80-49C3B543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B8D9E-4555-4715-A79F-E2CA031B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48C31-EEC1-4E12-AC01-65F535B2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3DF-0356-4D1D-94B5-22DFDB1E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C8855-9758-4FD7-969C-07AA0154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D97BB-682E-45B1-99E6-95745D91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2F388-4131-44CB-92B6-536C3590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2678D-962C-46E5-B34B-92FB2E1C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7D8F1-DB5B-4C1D-AB6F-E870288D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9FF02-243D-411F-8C7B-451EB44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EB99-22B6-4A05-8A9C-4DF8FEF4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95466-A6B8-4D50-A7BF-3CB56C1C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D8AA3-4F92-45D9-8D69-B46B76C8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83A52-B2B5-4717-9045-8CAE85A0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DF2-3FCC-480D-9AC2-F92357EA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93BF4-AC67-4E56-BABD-2F612245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50ED4-B269-48D9-8952-0D816D5B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B085D-E51C-4ED7-B5B9-4F7002A8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37588-6FBE-4103-92B7-21D14AC9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76EB9-C4B8-4DFE-ABDD-C760EEDE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CAB83-851C-4402-826F-ACB483B5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0FCC3-CFEB-45BE-9E84-D5488CF7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97CD1-DE1C-41F4-B945-B935EF48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8A93F-B7E3-4C8C-A805-DF7B81A4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70422-264E-4EA3-9FF0-D3FE4BA6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6FB-008A-46E9-A565-3C9F985F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9148D-9A11-4EE3-BA19-E70B0527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216A2-AE36-41AD-B6DE-5F0207C0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A66A0-2289-47A1-91FE-25C59EE7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41E53-FABC-4B5D-BF30-913ACC95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72053-0460-48EA-805D-FD5346B9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3AABF-E2DA-4FC6-BB36-9B10495C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742E9-7F35-4A27-844D-444B2171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68B53-9D23-4202-8979-3D7AA51A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0FEDE-5390-48F6-949B-FBFF4AEA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1515A-86F7-4A73-B7CE-B0CF12A6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01E-53A9-4AD9-BF88-66E28136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E40FC-5C44-444D-91DF-589BA693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E04CB-0DB9-4E3D-8EC1-F6B8A842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EDA11-30DF-4DC5-850E-D5E9988C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12BE5-6B58-4FA4-B08B-F2DB5BF7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CEEB1-E4EA-45FD-AEF0-AFDEF495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CAC82-C482-42FC-A218-92E89AD2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DC082-BA64-48D4-BBDC-513EFB96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0E3A1-9CB2-4011-97CC-3E6D917C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6F052-0CD3-4790-A2D3-30DCB641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E894A-75CB-4EC0-B7A1-88695EFF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AFD-34C7-4A34-84CD-F96D4855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9348D-1ED4-48F7-AF60-2E6397F8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BF8B6-648D-4961-AA69-432E765A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0DD62-C4D4-4510-A9E6-EEC6AC9C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8D0A7-E7BB-4511-A025-E84732A4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5575C-8A19-41EC-A187-F9DD2453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81A6F-8577-4578-A19A-4D05E2D5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99BEA-C3B9-412F-ABA6-C461D0F3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49CBE-7873-4808-949A-11E7BCEC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1EEA8-4885-4F09-A3B3-6D3878B2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C69E4-7DEC-4C59-BC30-18A07099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5F1-C897-413F-ACA0-F1C9AE50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14BF3-C77D-4089-8830-7EC7E94C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09ABB-BDF2-4DAE-8571-03D11B24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9D308-6828-44C7-8210-EB2A7C75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92AC7-FA5C-4190-9003-5AE836FC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6745A-4E21-4165-8BF1-C049EC42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25311-6224-4B71-B35B-D1072B3F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41941-CCF8-4E69-8B5E-FE8D0773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D50F9-F263-4D73-86D5-BB8D96D2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F109C-9893-45E1-8708-16292EB5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2AC5F-9951-4C08-9843-82F30CE8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73760-450A-44F2-AD9C-EAE1D9ADEB74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59812-2425-4BA3-AAA3-D92A574498A9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2BB954-ECF5-4CEB-98A5-45B087605EE7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7BE82-0565-4CDD-882E-F9583424F4C5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1EC59-5F6C-4DA6-B437-E39C013D62EC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D7A38-C3DE-47EB-BA78-96402596072F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3EFB9-8D5E-4F74-AF76-370708A1BA2F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7A7D1-0201-492E-BF30-55872FD365E6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81AA2-FA37-46B7-B9D4-FD8BB5C683AB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942ED-5E05-4F90-B33C-5F94ACBD3F65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75779-013D-487D-9194-B49A0C73831C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6F4C3-CC77-428E-BCCF-071F32B67B69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1201A-933F-4BB0-9F36-90F8954EDBD9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25731-1CF6-44EF-B4A9-F54DBCB39553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E02AB-269D-40A0-84AD-E486E993DF2E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76D3B-F955-4FFA-AE1D-B2EE881597F6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8E216-F734-4EBD-A378-9DDC7980C7AD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erfect Competition, Monopoly, O</a:t>
            </a:r>
            <a:r>
              <a:rPr b="0" lang="en-AU" sz="4400" spc="-1" strike="noStrike">
                <a:solidFill>
                  <a:srgbClr val="ffffff"/>
                </a:solidFill>
                <a:latin typeface="Trebuchet MS"/>
              </a:rPr>
              <a:t>ligopoly and Monopolistic Competition in Seller Marker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llan Fels, Professor of Governmen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Australia and New Zealand School of Government (ANZSOG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79040" y="514080"/>
            <a:ext cx="758340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1)  PERFECT COMPETITION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1255320" y="1980720"/>
            <a:ext cx="758340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haracteristic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Many buyers and sellers, with no dominant firm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Homogenous product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Free entry and exit (usually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Whe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Milk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1)  PERFECT COMPETI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1150920" y="1666800"/>
            <a:ext cx="6078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Behaviour and 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Arial"/>
              </a:rPr>
              <a:t>Firms are price t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rebuchet MS"/>
              </a:rPr>
              <a:t>Continual pressure to satisfy customer demand, minimise cost, innovate in order to surv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ol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Arial"/>
              </a:rPr>
              <a:t>Difficu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Too many competitors to 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If prices rise, there will be entry by competi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Arial"/>
              </a:rPr>
              <a:t>Government induced collusion.  The government may run the market as a cartel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a) setting a minimum pri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b) restricting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Arial"/>
              </a:rPr>
              <a:t>T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79040" y="46512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2)  MONOPOL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076400" y="1749600"/>
            <a:ext cx="77342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2800" indent="-262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haracteristics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Sole seller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 close product substitute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62800" indent="-262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auses of monopoly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ntry barriers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62800" indent="-262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ource of entry barriers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Monopoly of resource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Government regulation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Production process (natural monopoly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62800" indent="-262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xamples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etworks? E.g. telco, energy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Innovators?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3"/>
          <p:cNvSpPr/>
          <p:nvPr/>
        </p:nvSpPr>
        <p:spPr>
          <a:xfrm>
            <a:off x="1181160" y="1314360"/>
            <a:ext cx="73818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Behaviour and p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Assume profit maximisation occurs? Or less pressure to operate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Monopoly can determine its own price  but in raising price it is at the expense of  qua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The concept of marginal revenue i.e. the addition to revenue from producing and selling one more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Monopoly produces up to the point where marginal cost equals marginal 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Profits tend to be “above normal” but accounting results can be a poor indicator of monopoly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Price discrimination requi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Monopo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Different elasti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Ability to separate the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855360" y="304920"/>
            <a:ext cx="37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2)  MONOP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79040" y="936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3) OLIGOPOL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179360" y="1257480"/>
            <a:ext cx="75837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31480" indent="-2314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haracteristic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473760" indent="-2419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ew sell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473760" indent="-2419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terdepen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31480" indent="-2314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ricing and behaviou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473760" indent="-2419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ote the relevance of game theor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705240" indent="-2314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risoners’ dilemma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705240" indent="-2314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operation vs conflic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473760" indent="-2419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urno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705240" indent="-2314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djust price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473760" indent="-2419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ertrand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705240" indent="-2314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djust quantity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473760" indent="-2419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705240" indent="-2314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anks, oil companies, cemen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4) MONOPOLISTIC COMPETI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265040" y="1666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haracteristic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60160" indent="-286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any selle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60160" indent="-286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roduct differenti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60160" indent="-286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ree entr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60160" indent="-286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Books, CDs, films, computer games, restaurants, piano lessons, furniture etc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Behaviou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60160" indent="-286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ree entry tends to prevent “excessive” profit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79040" y="86040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5) INDICATORS OF COMPETITION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188720" y="1628280"/>
            <a:ext cx="758340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mport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ubstitut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ntr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untervailing powe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ther factors eg. dynamic factors such as technolog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Vertical integration?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28260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6) PUBLIC POLICI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950760" y="1676520"/>
            <a:ext cx="75837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Monopoly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Introduce more competitio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Regulate behaviour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ublic ownership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ompetition for the market as opposed to competition in the marke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ake no actio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ollusion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artel law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ice regulatio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tructural remedi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1T09:29:08Z</dcterms:created>
  <dc:creator>Wendy Ng</dc:creator>
  <dc:description/>
  <dc:language>en-US</dc:language>
  <cp:lastModifiedBy>erin</cp:lastModifiedBy>
  <cp:lastPrinted>2013-06-06T05:48:45Z</cp:lastPrinted>
  <dcterms:modified xsi:type="dcterms:W3CDTF">2013-06-06T05:49:20Z</dcterms:modified>
  <cp:revision>82</cp:revision>
  <dc:subject/>
  <dc:title>Anti-competitive Agreements</dc:title>
</cp:coreProperties>
</file>