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dt" idx="5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ftr" idx="5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 type="sldNum" idx="5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B20A0-116B-4114-A924-D6AEF5F34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0A974E-604C-4D57-8F89-BA5D25369F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E06541-7927-424C-8DD1-AB6A87CF5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9FC65-06E3-4982-9C73-21A12D6D82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D421B9-0D42-419A-A290-A8F4835C7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5447A3-C04E-44B2-9C0B-EA5CA2981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FC40A-5770-4F6B-A2E8-9ECD1B3DF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60CCA-0323-45B5-9B22-712001C02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05CD9D-1927-4034-9813-253993D7E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546052-71CF-44AC-91F5-35EE45E57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66EE-E22B-4F5A-9F2F-02317691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DA7F-70EE-4C93-AAED-1F895F28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7767B-B457-4498-9DD2-11DD19B6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DE296-D9A8-40FF-A231-B74AE8B0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C68EE-18F4-4216-AF68-DD1164BD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73DFA-86F0-488F-8274-C0374D39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87FC2-03ED-4026-8A6E-3AFD197E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A0DD0-6B1A-4055-B39C-DC3A4CB9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54CB3-650A-4F26-AD26-C58C2CBE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6F156-CCEE-4CDC-8B15-243F6C31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ECFFE-DAFD-48CD-BAC9-0ACD0B21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D941E-2B32-48E7-B6C9-E1139389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5EC9-4729-4CBA-ADD8-672D38D7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83B07-C53A-4DA3-9A17-16A5596C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E8680-E1AE-4E5F-A70A-32337510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A6815-A25E-41E0-B609-42627847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4FD83-ACE8-45A8-8468-A366C4CA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083A6-AEC1-404D-9AB6-61BE58BD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D73E0-A27D-4DA1-96CB-3C28E74B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68F56-8C29-4F3C-89B3-C1442252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6C42C-6C44-4495-B3A5-4265CA10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9E1ED-5C77-4530-A2A7-DE4239D5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E8437-4ED4-4C8E-9B69-7A656D5D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989D-CCF1-41CA-BD5E-91F43044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C681B-9A06-44C6-A2B5-72623A6F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82FD5-9511-47D6-89F1-2D3E1B31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0DD20-4C6A-40CD-B10F-2BE80469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A34CF-7623-4590-90B9-ECCF3199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188E2-09AF-4D24-A0A3-FCE8F4D8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50077-78EC-487E-A015-A0599B27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51B00-2232-4513-A24B-06A56C4C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8B280-DBEB-4F4F-8BB8-2A841C6B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9B47B-2EB2-4AC9-B418-39A0922B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10FA2-CDD9-40A8-B219-005212ED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C996A-4887-4934-8304-4C3EE00F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F15A7-B130-40BA-A667-C897B4FA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504F1-D811-4E91-857B-15A0237D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DFAB6-21E8-401B-A8A1-4C754574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58414-295F-4DE9-8103-E071C71B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092FF-DBCF-434A-ACD9-2D532AE6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4AD98-B83C-4D5A-8957-0D1A1A05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0F3D2-1784-4DCF-8E6A-526F7252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C9B6C-34F5-43AE-AB7B-89C6E411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1BA74-1B63-4591-ACD8-CC86D839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28E3A-89DB-45A2-A06D-914FE7F8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084C8-749E-4CFA-B833-949F2A04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E70A4-A333-4B30-87C6-F332A7E6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B7817-641D-4259-9B92-D428F856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E1F21-7278-4EDB-8722-7E775AB9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E0967-434C-4647-8372-1ED9FDFB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E00A9-63AD-4D6E-B744-CFF9AD4A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E74F16-5013-4985-8400-03E7669D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80D18-4EB2-4944-AF8F-6AE2FCCE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A84CA9-FF23-4042-960B-97C6C633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662145-B86A-4611-B1E6-6C12615B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B0FC99-03CC-47D7-96BA-9F9F2598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94FAB-E2C8-4E38-A8E8-A654FEF2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A2C2BF-BA8A-4119-A48F-ABEE1C81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478629-4295-4175-89E5-46D4EDB8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9F57E4-7A04-4628-8975-0E801626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8C690E-49DF-433C-BB1C-A093F8F7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E488F-65F2-41F7-8C71-E014F5DE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2F36C-D42D-44D1-B7DA-508FCDAF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F2F84F-1F9D-4195-A3D6-92DDA040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FD9A65-B4C6-424A-812B-305B6283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FF6DDD-B24D-4046-B4A5-09C2E855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87E5F2-A116-4A65-9576-FDDCCC46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CC4BC-B54B-4244-907F-01BAD8C6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E330F3-A6CF-4245-9DB6-33CA6492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0F4A12-23C0-43F6-80C5-2DF26F89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BD2E3-DB63-42FF-8B6F-7BE68FB5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C37B21-4ED5-41BF-BAED-073A5DF5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5786C3-B87A-4E1C-89EB-D588F013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C93DEE-6AD5-4798-943A-94DD1978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2F6EF1-D2CE-4DE4-874C-8556F52C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B3CD95-C19E-4CF6-8D92-4AFCEEC7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D5AD2D-96DC-44F6-A820-2395671C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427537-93E9-48E3-94DF-118617B7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25508-EB51-4ECC-A429-66FE4ECF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A2E29E-EF1C-4C4D-9968-F8F1C019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EED08D-1103-4469-AD84-1FF81ED6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46DD3B-DEF2-4839-A9D5-D8663A62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D8033D-809E-44D3-8C04-BCD92D7B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DFC085-FB2E-4F3F-BE21-24C79A4C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61ABA7-B6B3-4D36-BEA6-E7D9A75E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3ADCD3-32AA-4B3F-BF14-A3B2251B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EA6966-970E-407C-95C8-745D1E3A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DA2BA6-2334-46EE-A509-95CA666E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A9774F-6A9D-40D7-B6E8-7763F5AB0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60C66-5D85-4C34-A475-B86C689C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C74ADA-62F6-4EE1-8C1B-6DEA6A7D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05DEB7-AF35-419C-8529-4576E91F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D00569-C4B0-42E6-A49C-B399FAA9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809155-ED94-4802-8448-EBD340CD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49B9AB-19ED-4CAE-BF7A-9E667273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EAE9CE-9D92-49F7-ADE4-F0B45242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0C3458-5C6C-4770-B68E-6E5922EC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A2CBA1-7544-47F3-818A-0FDFBE96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D6F98E-062A-4AAD-8068-9F279AFD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D0276C-EA34-42B7-B37E-E3FFB5E8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37869-41DC-4164-92FE-DA612F0B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6C48BD-037C-40CA-8F23-CA3F96EA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0B271E-5276-4DAE-8EEA-1E19ED8F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F47360-3A4C-432B-81EF-C9DC7899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39E709-1AD2-4BA4-AEB1-8B8331BC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0A37D0-C66D-43FB-A731-94618DEE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505D58-F71B-4D48-BD83-531483C9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B9B926-D3E2-41E5-9095-C07F067F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EF735C-60E2-4CC4-8764-EB72720A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537964-73AD-47E5-856F-233C9BAC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3CB693-6D61-40B4-8D11-FA7D89B9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DCC0-0CF0-4987-89CF-16894D1B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BA139-922A-4699-8010-3527D57C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B3A7C4-755F-40D4-991A-A7296780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C60E33-2D39-4A00-93CE-5FF3CF7B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6D5D32-D17B-4F8F-A0DC-53F8BEA7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A00F66-9E6A-47FC-A2BA-8B7E4AE8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44FC78-54D3-489D-8734-017FE270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E6616-7873-436B-8BDF-AE6205A8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A3358-14D1-46AF-8F09-2320CD5B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71CDA-3735-444D-8D3F-9BD025B7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611D4-6767-4588-9B1A-2BC25072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9F320-2156-40FC-943F-542D264B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1648B-BAFE-411C-86E0-5FE971FF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A0570-0FA9-4D58-91D5-CEB32C58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99FDD-729E-483F-8981-8650FD0F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652C0-F823-4311-925D-5819CEB2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78E1-48D9-4B81-B396-8902B061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B4865-CDD9-44F7-9BA8-6C4B3EF8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C1390-D57F-4CCC-ABA4-C9D7C0F5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3F15E-7284-4D21-96DC-DB9B47DB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A62F5-6E4B-4903-A25F-689EC0B1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A45A4-CE55-4AEA-BB73-17F55343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279F3-ABF0-48F0-9521-E9171F38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A02A8-A6DC-421F-A73D-81B39D33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46212-7A68-47EA-96CB-D425D741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66550-7B4D-4F7C-BECF-047EA571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6355F-56C1-4B9C-89A5-61A311FF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12E0-2213-437F-BC10-E1EEA896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9319F-D67C-49B6-91DF-58EB3AF5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95551-539C-4FDD-A6F8-21F7FABD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98490-8501-4255-B473-87720C35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E0B87-CF17-4AD7-BCA1-D2E2E319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22D3F-21FC-4314-90D2-6E8E2E49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34BDC-B287-44E8-A3CC-690CD2FD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1BD70-1041-4A4D-8791-8113F0C2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4AC78-920F-41A4-AA0F-6A6BD47D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381BF-60D9-493B-A901-3DCBD4E8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0C462-DF06-4182-B8D2-300D4442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0B92-ADFD-40E5-A436-5481E918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C760B-9F0E-42E0-B52A-0A453A9F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5ED97-0EB8-48FE-A72E-FB38B1E8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6CCFB-0982-4EA4-9038-B2FFCF8D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15EB1-B915-4B22-89A3-4C743D18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894B0-2297-4249-9ECE-7D45B4A1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03FC3-0B97-4055-83C1-80BE8EA4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56CC3-7059-43B3-8ECF-66D3947F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C10D9-375D-4088-9805-DC2E5108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60CF9-8D78-4600-89CE-6EFB5A54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D62FF-5A49-442E-BC86-BEC1046E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ADD6-037C-4141-8E79-863F1364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12A75-7AF0-496B-A808-4906EF28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C29B8-AE4C-4940-B3A3-9B002E3C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C2581-4AF2-4EB0-980A-4ADFD8CC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987B1-EF6E-46BD-8423-63E6BFB5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B3F4D-D5D2-40A6-A18C-837A5062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A2CE4-5FBD-4FA6-8637-EEBC60E5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1DD4C-D075-435E-893B-1C4F9ABF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21BEC-15AE-4A01-8A10-733ABC6A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9A385-12C2-4E76-9B70-058C64A9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5C7FD-88D7-4400-8E5F-643D20D5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EE8E-EAE1-4311-8356-804EC775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5D219-D4AD-435F-B933-084A0A17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36366-108B-445A-B041-5DA0FB7B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73192-9AA8-4A9D-A408-2B7FAD18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98A1E-AFF6-4A4A-BDBE-57849B85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45D86-CE63-45F3-AC85-EA31DFD4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ACE0E-BC5C-427B-B9CA-4679A76E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33CFA-0A70-491B-A449-F92AC1CD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7479B-C32A-4285-9FA6-5B5FD014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22D67-3406-458B-A8F4-99ECE5FD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B6F4D-2BB0-4221-A1CF-9919A398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4F1F-2509-43AB-BC17-9807FA47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DABC1-454E-47B8-A2F7-2812BCCA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A89C4-6DFC-4612-BE7F-35D1D78B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61F0E-6F9E-41B9-85C4-1BCB5502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23745-E84F-45F8-824A-7681F049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7A472-F0A3-407C-B8C2-556E17AD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602C3-53F1-49B4-849C-BFF37510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A4418-6DFA-4706-89B0-14F4B293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A56A6-3874-4F04-9790-E3C4D142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8CED6-93FF-4284-AB88-AD93DEE7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42221-8C29-449A-A707-3DA66089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33C4-DDFC-42C9-8562-AF174409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A025E-2374-41F3-994E-6D7F7981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D38B8-544D-43A7-A85F-B8DD8D5A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195A5-A49D-48AC-A7B5-DB90A056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A1CB0-368B-4806-9F0E-2CCDF60B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88ECF-57B3-4BDD-A783-AE9039D9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B3B28-6ADE-4A0A-B7FC-3C1DBAC0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6CFF3-3BF3-4C27-A196-D2687824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C6CD1-7DA4-47A0-886E-DCEDC9E3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1A8A2-1ED3-45E4-BDBC-5F8F3ACF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63911-E9D2-4AF0-8AA1-1B94A5BB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EC5F8-44BD-45B7-984F-F485A2C9CB8E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257D3-8FDD-47FF-86F0-26893AE7BEB6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B48AB6-693F-4D9B-854E-4D1CA996A533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8" descr="Overlay-ContentCaption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18388B-10BC-4804-BC13-BE44C3C4AA89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8" descr="Overlay-PictureCaption.png"/>
          <p:cNvPicPr/>
          <p:nvPr/>
        </p:nvPicPr>
        <p:blipFill>
          <a:blip r:embed="rId2"/>
          <a:stretch/>
        </p:blipFill>
        <p:spPr>
          <a:xfrm>
            <a:off x="449280" y="187200"/>
            <a:ext cx="8535960" cy="64836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388584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5866920" y="6288120"/>
            <a:ext cx="267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2EAC8-36DF-4122-A2B2-F3879AFF8706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08BAB-99B5-430A-98EB-96F1605A20F1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C7B57-8B35-438F-81D2-EF208688AB06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E185D-CB61-43AA-A456-06463126D2B7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5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5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05CE5F-CDC4-4DB9-9BA4-F01A42C1B74F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Overlay-TitleSlide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54161-AE2B-45AC-BFE1-435F3511ACB1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CF939B-0FAB-4673-A46F-17F1A2429DCE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Overlay-SectionHeader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869B07-9C25-455A-8AAA-511CA9F45C6B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02606B-2083-44A4-A8A1-963E09F78348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9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0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2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B407C1-E4D5-41F2-B357-0A373DCDD460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8E6D5-29A7-4CF1-BD2B-CF32C71A3332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1A74A-3916-43A3-AE71-1E4CECEFCC4B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8abed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F86110-9829-42BF-BABA-6BF0D9A3F948}" type="slidenum">
              <a:rPr b="0" lang="en-US" sz="1200" spc="-1" strike="noStrike">
                <a:solidFill>
                  <a:srgbClr val="1b3861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99840" y="2492280"/>
            <a:ext cx="67626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erfect Competition, Monopoly, O</a:t>
            </a:r>
            <a:r>
              <a:rPr b="0" lang="en-AU" sz="4400" spc="-1" strike="noStrike">
                <a:solidFill>
                  <a:srgbClr val="ffffff"/>
                </a:solidFill>
                <a:latin typeface="Trebuchet MS"/>
              </a:rPr>
              <a:t>ligopoly and Monopolistic Competition in Seller Marker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1599840" y="3967200"/>
            <a:ext cx="6762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llan Fels, Professor of Governmen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Australia and New Zealand School of Government (ANZSOG)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79040" y="514080"/>
            <a:ext cx="758340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1)  PERFECT COMPETITION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1255320" y="1980720"/>
            <a:ext cx="7583400" cy="42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haracteristic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Many buyers and sellers, with no dominant firm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Homogenous product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Free entry and exit (usually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Whe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Milk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1)  PERFECT COMPETITION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1150920" y="1666800"/>
            <a:ext cx="607860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Behaviour and Pr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  <a:ea typeface="Arial"/>
              </a:rPr>
              <a:t>Firms are price ta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rebuchet MS"/>
              </a:rPr>
              <a:t>Continual pressure to satisfy customer demand, minimise cost, innovate in order to surv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Col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  <a:ea typeface="Arial"/>
              </a:rPr>
              <a:t>Difficu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  <a:ea typeface="Arial"/>
              </a:rPr>
              <a:t>Too many competitors to organ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  <a:ea typeface="Arial"/>
              </a:rPr>
              <a:t>If prices rise, there will be entry by competi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  <a:ea typeface="Arial"/>
              </a:rPr>
              <a:t>Government induced collusion.  The government may run the market as a cartel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rebuchet MS"/>
                <a:ea typeface="Arial"/>
              </a:rPr>
              <a:t>a) setting a minimum pric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rebuchet MS"/>
                <a:ea typeface="Arial"/>
              </a:rPr>
              <a:t>b) restricting 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  <a:ea typeface="Arial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  <a:ea typeface="Arial"/>
              </a:rPr>
              <a:t>Tax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  <a:ea typeface="Arial"/>
              </a:rPr>
              <a:t>Do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79040" y="46512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2)  MONOPOLY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1076400" y="1749600"/>
            <a:ext cx="77342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2800" indent="-2628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Characteristics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37120" indent="-27432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Sole seller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537120" indent="-27432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 close product substitutes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62800" indent="-2628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Causes of monopoly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37120" indent="-27432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ntry barriers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62800" indent="-2628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ource of entry barriers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37120" indent="-27432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Monopoly of resources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537120" indent="-27432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Government regulation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537120" indent="-27432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Production process (natural monopoly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262800" indent="-2628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xamples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37120" indent="-27432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etworks? E.g. telco, energy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537120" indent="-27432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Innovators?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3"/>
          <p:cNvSpPr/>
          <p:nvPr/>
        </p:nvSpPr>
        <p:spPr>
          <a:xfrm>
            <a:off x="1181160" y="1314360"/>
            <a:ext cx="738180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Behaviour and pr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  <a:ea typeface="Arial"/>
              </a:rPr>
              <a:t>Assume profit maximisation occurs? Or less pressure to operate efficien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Monopoly can determine its own price  but in raising price it is at the expense of  quant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The concept of marginal revenue i.e. the addition to revenue from producing and selling one more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Monopoly produces up to the point where marginal cost equals marginal reve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Profits tend to be “above normal” but accounting results can be a poor indicator of monopoly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Price discrimination requi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  <a:ea typeface="Arial"/>
              </a:rPr>
              <a:t>Monopo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  <a:ea typeface="Arial"/>
              </a:rPr>
              <a:t>Different elastic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rebuchet MS"/>
                <a:ea typeface="Arial"/>
              </a:rPr>
              <a:t>Ability to separate the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9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4"/>
          <p:cNvSpPr/>
          <p:nvPr/>
        </p:nvSpPr>
        <p:spPr>
          <a:xfrm>
            <a:off x="855360" y="304920"/>
            <a:ext cx="37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2)  MONOPO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79040" y="936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3) OLIGOPOLY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1179360" y="1257480"/>
            <a:ext cx="758376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31480" indent="-2314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haracteristic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473760" indent="-24192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ew seller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473760" indent="-24192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Interdependen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31480" indent="-2314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Pricing and behaviour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473760" indent="-24192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Note the relevance of game theory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705240" indent="-23148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risoners’ dilemma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705240" indent="-23148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operation vs conflic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473760" indent="-24192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urno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705240" indent="-23148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djust price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473760" indent="-24192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Bertrand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705240" indent="-23148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djust quantity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473760" indent="-24192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Example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705240" indent="-23148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anks, oil companies, cemen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4) MONOPOLISTIC COMPETITION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265040" y="1666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3960" indent="-27396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haracteristic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60160" indent="-286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any seller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60160" indent="-286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Product differentiatio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60160" indent="-286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ree entr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3960" indent="-27396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60160" indent="-286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Books, CDs, films, computer games, restaurants, piano lessons, furniture etc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3960" indent="-27396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Behaviour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60160" indent="-286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ree entry tends to prevent “excessive” profit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3960" indent="-273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79040" y="86040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5) INDICATORS OF COMPETITION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1188720" y="1628280"/>
            <a:ext cx="7583400" cy="42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mport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ubstitute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ntr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untervailing power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Other factors eg. dynamic factors such as technolog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Vertical integration?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28260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6) PUBLIC POLICIE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950760" y="1676520"/>
            <a:ext cx="758376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Monopoly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Introduce more competition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Regulate behaviour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ublic ownership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ompetition for the market as opposed to competition in the marke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ake no action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ollusion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artel law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rice regulation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tructural remedie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1T09:29:08Z</dcterms:created>
  <dc:creator>Wendy Ng</dc:creator>
  <dc:description/>
  <dc:language>en-US</dc:language>
  <cp:lastModifiedBy>Arvinder Kaur</cp:lastModifiedBy>
  <dcterms:modified xsi:type="dcterms:W3CDTF">2013-06-06T05:00:56Z</dcterms:modified>
  <cp:revision>82</cp:revision>
  <dc:subject/>
  <dc:title>Anti-competitive Agreements</dc:title>
</cp:coreProperties>
</file>